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4274-AF9A-44B1-9743-119CAA79B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EBFC-F0D1-4192-884E-BF9D8992E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980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2980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760" y="387972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280" y="132408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9760" y="132408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280" y="387972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9760" y="387972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2216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760" y="387972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2980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7-</a:t>
            </a:r>
            <a:fld id="{1DDA1CC7-C943-4DBC-AFEA-EBFC96A49E2D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8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lexible Budgets, Variances, and Management Control: I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head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069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verhead costs are significant for most organiz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all that variable overhead is allocated to products and services using a budgeted variable overhead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te into efficiency and spending varian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Overhea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all that fixed overhead is allocated to products and services using a budgeted fixed overhead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te into spending and production volume varian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77 - 27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le Overhead Cost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 efficiency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units of the allocation base - budgeted units of the allocation base) x budgeted variable overhead allocation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4,500 - 4,000) x $3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15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 spending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variable overhead rate - budgeted variable overhead rate) x  actual units of the allocation ba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29.00 - $30.00) x 4,50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4,500 F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79 - 28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le Overhead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79 - 28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2895480"/>
            <a:ext cx="358128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0,5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1752480"/>
            <a:ext cx="25146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ending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,500 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120" y="1752480"/>
            <a:ext cx="25905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5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2666880"/>
            <a:ext cx="26668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4120" y="26668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24382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24382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8440" y="2314080"/>
            <a:ext cx="18687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verhea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xed Overhead Cost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98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overhead spending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 fixed overhead costs – Static budgeted fixed overhea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85,000 - $276,000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9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ion volum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fixed overhead - [ (Budgeted fixed overhead allocation base allowed for actual output units) x (Budgeted fixed overhead rate) ]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76,000 - [ (0.40 x 10,000) x $57.50 ]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76,000 - $23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6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83 - 28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head Cost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88640" y="1219320"/>
            <a:ext cx="3421080" cy="42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89 - 29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75200" y="1219320"/>
            <a:ext cx="281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Overhea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2286000"/>
            <a:ext cx="0" cy="13716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43200" y="365760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2057400"/>
            <a:ext cx="1524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How th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 i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lann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ntroll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4343400"/>
            <a:ext cx="15238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How 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r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lloca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to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roduc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2209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86200" y="3733920"/>
            <a:ext cx="1676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743200" y="2514240"/>
            <a:ext cx="152388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2286000"/>
            <a:ext cx="0" cy="13716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48520" y="365760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2209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391520" y="3733920"/>
            <a:ext cx="1676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48520" y="2971800"/>
            <a:ext cx="152388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43200" y="4495680"/>
            <a:ext cx="0" cy="13716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3200" y="586728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09680" y="441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5943600"/>
            <a:ext cx="1676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743200" y="4723920"/>
            <a:ext cx="152388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4495680"/>
            <a:ext cx="0" cy="13716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48520" y="586728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15000" y="441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91520" y="59436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248520" y="4723920"/>
            <a:ext cx="152388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16:33:04Z</dcterms:created>
  <dc:creator>User</dc:creator>
  <dc:description/>
  <dc:language>en-US</dc:language>
  <cp:lastModifiedBy>John Moore</cp:lastModifiedBy>
  <cp:lastPrinted>1999-06-03T17:08:38Z</cp:lastPrinted>
  <dcterms:modified xsi:type="dcterms:W3CDTF">2003-03-22T13:12:46Z</dcterms:modified>
  <cp:revision>8</cp:revision>
  <dc:subject/>
  <dc:title>Overhead Cost Variances</dc:title>
</cp:coreProperties>
</file>